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 - </a:t>
            </a:r>
            <a:fld id="{05079FAB-428D-45EB-88AE-55C4B837C002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 - </a:t>
            </a:r>
            <a:fld id="{9A813AE5-B717-49E6-B735-8D07D654C336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Quadratic Functions and Equations; Inequal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057400" y="1752480"/>
          <a:ext cx="1096920" cy="94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752480"/>
                    <a:ext cx="1096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057400" y="2743200"/>
          <a:ext cx="94464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743200"/>
                    <a:ext cx="944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133720" y="4876920"/>
          <a:ext cx="64116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876920"/>
                    <a:ext cx="6411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057400" y="3809880"/>
          <a:ext cx="944640" cy="94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809880"/>
                    <a:ext cx="9446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057400" y="1752480"/>
          <a:ext cx="1096920" cy="94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752480"/>
                    <a:ext cx="1096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057400" y="2743200"/>
          <a:ext cx="94464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743200"/>
                    <a:ext cx="944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133720" y="4876920"/>
          <a:ext cx="64116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876920"/>
                    <a:ext cx="6411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57400" y="3809880"/>
          <a:ext cx="944640" cy="94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809880"/>
                    <a:ext cx="9446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225520" y="1905120"/>
          <a:ext cx="12798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25520" y="1905120"/>
                    <a:ext cx="12798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227320" y="2743200"/>
          <a:ext cx="12175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27320" y="2743200"/>
                    <a:ext cx="1217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317680" y="3809880"/>
          <a:ext cx="11271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7680" y="3809880"/>
                    <a:ext cx="1127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17680" y="4952880"/>
          <a:ext cx="1339920" cy="103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7680" y="4952880"/>
                    <a:ext cx="1339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225520" y="1905120"/>
          <a:ext cx="12798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25520" y="1905120"/>
                    <a:ext cx="12798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27320" y="2743200"/>
          <a:ext cx="12175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27320" y="2743200"/>
                    <a:ext cx="1217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317680" y="3809880"/>
          <a:ext cx="11271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7680" y="3809880"/>
                    <a:ext cx="1127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317680" y="4952880"/>
          <a:ext cx="1339920" cy="103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7680" y="4952880"/>
                    <a:ext cx="1339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133720" y="1919160"/>
          <a:ext cx="115884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919160"/>
                    <a:ext cx="11588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057400" y="5105520"/>
          <a:ext cx="1460520" cy="54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105520"/>
                    <a:ext cx="146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135160" y="2895480"/>
          <a:ext cx="137016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2895480"/>
                    <a:ext cx="13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057400" y="4038480"/>
          <a:ext cx="127944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127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27160" y="1919160"/>
          <a:ext cx="137160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1919160"/>
                    <a:ext cx="1371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057400" y="5105520"/>
          <a:ext cx="1460520" cy="54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105520"/>
                    <a:ext cx="146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5160" y="2895480"/>
          <a:ext cx="137016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2895480"/>
                    <a:ext cx="13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057400" y="4038480"/>
          <a:ext cx="127944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127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447920" y="19810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147760" y="1889280"/>
          <a:ext cx="128124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7760" y="1889280"/>
                    <a:ext cx="12812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286000" y="2971800"/>
          <a:ext cx="1004760" cy="48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971800"/>
                    <a:ext cx="1004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119320" y="3809880"/>
          <a:ext cx="149220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3809880"/>
                    <a:ext cx="14922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195640" y="5105520"/>
          <a:ext cx="1461960" cy="54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5105520"/>
                    <a:ext cx="14619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147760" y="1889280"/>
          <a:ext cx="128124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7760" y="1889280"/>
                    <a:ext cx="12812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2286000" y="2971800"/>
          <a:ext cx="1004760" cy="48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971800"/>
                    <a:ext cx="1004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119320" y="3809880"/>
          <a:ext cx="149220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3809880"/>
                    <a:ext cx="14922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195640" y="5105520"/>
          <a:ext cx="1461960" cy="54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5105520"/>
                    <a:ext cx="14619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2255760" y="2743200"/>
          <a:ext cx="944640" cy="9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5760" y="2743200"/>
                    <a:ext cx="9446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192400" y="3860640"/>
          <a:ext cx="8524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2400" y="386064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179800" y="4902120"/>
          <a:ext cx="852480" cy="94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490212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166840" y="1955880"/>
          <a:ext cx="66996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6840" y="1955880"/>
                    <a:ext cx="669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255760" y="2743200"/>
          <a:ext cx="944640" cy="9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5760" y="2743200"/>
                    <a:ext cx="9446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192400" y="3860640"/>
          <a:ext cx="8524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2400" y="386064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2179800" y="4902120"/>
          <a:ext cx="852480" cy="94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490212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166840" y="1955880"/>
          <a:ext cx="66996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6840" y="1955880"/>
                    <a:ext cx="669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1522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base and height of a triangle is 56 in. Find the height for which the area is maximu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4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447920" y="4336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2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371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8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12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522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base and height of a triangle is 56 in. Find the height for which the area is maximu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4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47920" y="4336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2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3371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8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12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371600" y="3473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 find the vertex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2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47920" y="4064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(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098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(2, 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 find the vertex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2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447920" y="4064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(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3098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(2, 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371600" y="2286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930320" y="433692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0320" y="433692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930320" y="433692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0320" y="433692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371600" y="3625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981080" y="438768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38768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1981080" y="3346560"/>
          <a:ext cx="1005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34656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        in term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84400" y="4051440"/>
          <a:ext cx="81612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4051440"/>
                    <a:ext cx="81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086280" y="216000"/>
          <a:ext cx="90468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280" y="216000"/>
                    <a:ext cx="9046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36800" y="1905120"/>
          <a:ext cx="93672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36800" y="1905120"/>
                    <a:ext cx="936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71800" y="2971800"/>
          <a:ext cx="8157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1800" y="2971800"/>
                    <a:ext cx="81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046240" y="5067360"/>
          <a:ext cx="996840" cy="54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46240" y="5067360"/>
                    <a:ext cx="99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1981080" y="438768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38768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981080" y="3346560"/>
          <a:ext cx="1005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34656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371600" y="3625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tes have 30 feet of picket fence with which to enclose a flower garden. What dimensions should the garden have in order to maximize are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f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.5 ft by 7.5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 ft by 11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 ft by 5 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tes have 30 feet of picket fence with which to enclose a flower garden. What dimensions should the garden have in order to maximize are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f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.5 ft by 7.5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 ft by 11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 ft by 5 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1371600" y="48448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36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37160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,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819520" y="185760"/>
          <a:ext cx="309852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185760"/>
                    <a:ext cx="30985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36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37160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716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7160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,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2819520" y="185760"/>
          <a:ext cx="309852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185760"/>
                    <a:ext cx="30985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371600" y="5486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679840" y="309600"/>
          <a:ext cx="27651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9840" y="309600"/>
                    <a:ext cx="276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679840" y="309600"/>
          <a:ext cx="27651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9840" y="309600"/>
                    <a:ext cx="276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5,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2746440" y="309600"/>
          <a:ext cx="26319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440" y="309600"/>
                    <a:ext cx="26319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189160" y="5257800"/>
          <a:ext cx="6303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5257800"/>
                    <a:ext cx="630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5,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2746440" y="309600"/>
          <a:ext cx="26319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440" y="309600"/>
                    <a:ext cx="26319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189160" y="5257800"/>
          <a:ext cx="6303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5257800"/>
                    <a:ext cx="630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1371600" y="4419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23880" y="380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844720" y="324000"/>
          <a:ext cx="203220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24000"/>
                    <a:ext cx="2032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179800" y="1828800"/>
          <a:ext cx="80460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9800" y="1828800"/>
                    <a:ext cx="8046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179800" y="2971800"/>
          <a:ext cx="117288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2971800"/>
                    <a:ext cx="11728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2189160" y="4114800"/>
          <a:ext cx="123984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89160" y="4114800"/>
                    <a:ext cx="12398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        in term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084400" y="4051440"/>
          <a:ext cx="81612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4051440"/>
                    <a:ext cx="81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86280" y="216000"/>
          <a:ext cx="90468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280" y="216000"/>
                    <a:ext cx="9046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36800" y="1905120"/>
          <a:ext cx="93672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36800" y="1905120"/>
                    <a:ext cx="936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071800" y="2971800"/>
          <a:ext cx="8157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1800" y="2971800"/>
                    <a:ext cx="81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046240" y="5067360"/>
          <a:ext cx="996840" cy="54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46240" y="5067360"/>
                    <a:ext cx="99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380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844720" y="324000"/>
          <a:ext cx="203220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24000"/>
                    <a:ext cx="2032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179800" y="1828800"/>
          <a:ext cx="80460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9800" y="1828800"/>
                    <a:ext cx="8046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179800" y="2971800"/>
          <a:ext cx="117288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2971800"/>
                    <a:ext cx="11728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189160" y="4114800"/>
          <a:ext cx="123984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89160" y="4114800"/>
                    <a:ext cx="12398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24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2868480" y="324000"/>
          <a:ext cx="19321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4000"/>
                    <a:ext cx="193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093760" y="1828800"/>
          <a:ext cx="110664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3760" y="1828800"/>
                    <a:ext cx="1106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170080" y="2971800"/>
          <a:ext cx="66996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0080" y="2971800"/>
                    <a:ext cx="669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170080" y="4114800"/>
          <a:ext cx="83808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4114800"/>
                    <a:ext cx="838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246400" y="5257800"/>
          <a:ext cx="401400" cy="103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46400" y="5257800"/>
                    <a:ext cx="401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324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868480" y="324000"/>
          <a:ext cx="19321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4000"/>
                    <a:ext cx="193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093760" y="1828800"/>
          <a:ext cx="110664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3760" y="1828800"/>
                    <a:ext cx="1106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170080" y="2971800"/>
          <a:ext cx="66996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0080" y="2971800"/>
                    <a:ext cx="669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2170080" y="4114800"/>
          <a:ext cx="83808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4114800"/>
                    <a:ext cx="838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246400" y="5257800"/>
          <a:ext cx="401400" cy="103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46400" y="5257800"/>
                    <a:ext cx="401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295280" y="2057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2876400" y="152280"/>
          <a:ext cx="16653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6400" y="152280"/>
                    <a:ext cx="1665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073240" y="2057400"/>
          <a:ext cx="31845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057400"/>
                    <a:ext cx="3184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149560" y="4343400"/>
          <a:ext cx="264780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9560" y="4343400"/>
                    <a:ext cx="2647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225520" y="5410080"/>
          <a:ext cx="9702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410080"/>
                    <a:ext cx="970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225520" y="3124080"/>
          <a:ext cx="150840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25520" y="3124080"/>
                    <a:ext cx="1508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2876400" y="152280"/>
          <a:ext cx="16653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6400" y="152280"/>
                    <a:ext cx="1665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2073240" y="2057400"/>
          <a:ext cx="31845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057400"/>
                    <a:ext cx="3184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2149560" y="4343400"/>
          <a:ext cx="264780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9560" y="4343400"/>
                    <a:ext cx="2647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225520" y="5410080"/>
          <a:ext cx="9702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410080"/>
                    <a:ext cx="970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225520" y="3124080"/>
          <a:ext cx="150840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25520" y="3124080"/>
                    <a:ext cx="1508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1295280" y="2057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2793960" y="152280"/>
          <a:ext cx="18320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3960" y="152280"/>
                    <a:ext cx="1832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120760" y="2057400"/>
          <a:ext cx="29847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0760" y="2057400"/>
                    <a:ext cx="2984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2021040" y="4343400"/>
          <a:ext cx="301608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1040" y="4343400"/>
                    <a:ext cx="3016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2097000" y="5410080"/>
          <a:ext cx="13050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7000" y="5410080"/>
                    <a:ext cx="1305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73320" y="3124080"/>
          <a:ext cx="130644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3320" y="3124080"/>
                    <a:ext cx="13064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2793960" y="152280"/>
          <a:ext cx="18320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3960" y="152280"/>
                    <a:ext cx="1832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120760" y="2057400"/>
          <a:ext cx="29847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0760" y="2057400"/>
                    <a:ext cx="2984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2021040" y="4343400"/>
          <a:ext cx="301608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1040" y="4343400"/>
                    <a:ext cx="3016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2097000" y="5410080"/>
          <a:ext cx="13050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7000" y="5410080"/>
                    <a:ext cx="1305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2173320" y="3124080"/>
          <a:ext cx="130644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3320" y="3124080"/>
                    <a:ext cx="13064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4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(8 +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4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–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4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(8 +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4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–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4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4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8:24Z</dcterms:modified>
  <cp:revision>211</cp:revision>
  <dc:subject/>
  <dc:title>No Slide Title</dc:title>
</cp:coreProperties>
</file>